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338B-8973-4143-A117-94BB0BE3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29D9-EDD1-4222-BCD6-A1E40635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56D5-521D-4FAA-B5E4-2EF74A03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7540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1192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88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7540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1192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F827-6123-4319-B5A5-304C4E477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4EBA-081B-45FA-A352-057ABC9A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5032-0589-4395-8FBF-9237D8EE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EC4F-1B7E-4B32-B596-C4C28AF6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4425-5EF1-485E-B654-A43428D0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F5F5-7CFE-4D0E-8A81-E831DA78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388800" y="402840"/>
            <a:ext cx="69948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DB50-7E2A-4619-B753-D7CF03A9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4320-21B6-429D-9A29-429771BF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EBDB-133F-4432-96EC-15D9D0E7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6574-5666-4971-A14E-57972575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E0C3-AB4C-4B10-BEEA-FACEEB8A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D255-23BA-4E6C-AC2B-1B5B843B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E290-865C-4F76-8341-B7B0B5C2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7540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192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888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27540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1192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69ED-54FC-4D19-B166-80595A5D0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BFC2-F28A-4D38-9DBE-1583346D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8CC1-2503-4151-BB1B-84094FDC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6882-0021-4C67-896E-A87335BB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8800" y="402840"/>
            <a:ext cx="69948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C481-A2A4-401E-8FF3-9995BFF5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9097-5E08-4FBF-ADA0-32BC1BF7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90C1-21B2-4136-B724-F79280CA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FC5F-0688-46CB-BA48-CA939956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781280" indent="-254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290680" indent="-2538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290680" indent="-2538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290680" indent="-2538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8800" y="9323280"/>
            <a:ext cx="1812960" cy="534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323280"/>
            <a:ext cx="2460960" cy="534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323280"/>
            <a:ext cx="1812960" cy="534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fld id="{069EAEAA-A3B0-4833-8855-D44F0CBE70E4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14"/>
          <p:cNvSpPr/>
          <p:nvPr/>
        </p:nvSpPr>
        <p:spPr>
          <a:xfrm>
            <a:off x="2590920" y="10210680"/>
            <a:ext cx="30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mplate © 2008. www.printcutfold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14"/>
          <p:cNvSpPr/>
          <p:nvPr/>
        </p:nvSpPr>
        <p:spPr>
          <a:xfrm>
            <a:off x="304920" y="-2362320"/>
            <a:ext cx="71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mplate © 2008 Jim Holland &amp; Gaby Kru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4"/>
          <p:cNvSpPr/>
          <p:nvPr/>
        </p:nvSpPr>
        <p:spPr>
          <a:xfrm>
            <a:off x="2590920" y="10210680"/>
            <a:ext cx="30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mplate © 2008. www.printcutfold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4"/>
          <p:cNvSpPr/>
          <p:nvPr/>
        </p:nvSpPr>
        <p:spPr>
          <a:xfrm>
            <a:off x="304920" y="-2362320"/>
            <a:ext cx="71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mplate © 2008 Jim Holland &amp; Gaby Kru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7772400" cy="777240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9"/>
          <p:cNvSpPr/>
          <p:nvPr/>
        </p:nvSpPr>
        <p:spPr>
          <a:xfrm>
            <a:off x="0" y="0"/>
            <a:ext cx="7772400" cy="777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10"/>
          <p:cNvSpPr/>
          <p:nvPr/>
        </p:nvSpPr>
        <p:spPr>
          <a:xfrm flipH="1">
            <a:off x="0" y="0"/>
            <a:ext cx="7772400" cy="777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Right Arrow Callout 11"/>
          <p:cNvGrpSpPr/>
          <p:nvPr/>
        </p:nvGrpSpPr>
        <p:grpSpPr>
          <a:xfrm>
            <a:off x="-4048200" y="2182680"/>
            <a:ext cx="4029120" cy="4596120"/>
            <a:chOff x="-4048200" y="2182680"/>
            <a:chExt cx="4029120" cy="4596120"/>
          </a:xfrm>
        </p:grpSpPr>
        <p:pic>
          <p:nvPicPr>
            <p:cNvPr id="49" name="Right Arrow Callout 11" descr=""/>
            <p:cNvPicPr/>
            <p:nvPr/>
          </p:nvPicPr>
          <p:blipFill>
            <a:blip r:embed="rId2"/>
            <a:stretch/>
          </p:blipFill>
          <p:spPr>
            <a:xfrm>
              <a:off x="-4048200" y="2182680"/>
              <a:ext cx="4029120" cy="459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-3886200" y="2247840"/>
              <a:ext cx="2475000" cy="44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Type your information in textbox #1 at the bottom of the page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Move the textbox to this location.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Next, rotate the textbox 90 degrees to the right 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Insert and rotate clipart 90 degrees to the right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Right Arrow Callout 12"/>
          <p:cNvGrpSpPr/>
          <p:nvPr/>
        </p:nvGrpSpPr>
        <p:grpSpPr>
          <a:xfrm>
            <a:off x="7864560" y="2212920"/>
            <a:ext cx="4029120" cy="4565880"/>
            <a:chOff x="7864560" y="2212920"/>
            <a:chExt cx="4029120" cy="4565880"/>
          </a:xfrm>
        </p:grpSpPr>
        <p:pic>
          <p:nvPicPr>
            <p:cNvPr id="52" name="Right Arrow Callout 12" descr=""/>
            <p:cNvPicPr/>
            <p:nvPr/>
          </p:nvPicPr>
          <p:blipFill>
            <a:blip r:embed="rId3"/>
            <a:stretch/>
          </p:blipFill>
          <p:spPr>
            <a:xfrm>
              <a:off x="7864560" y="2212920"/>
              <a:ext cx="4029120" cy="456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259920" y="2247840"/>
              <a:ext cx="2475000" cy="44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Type your information in textbox #3 at the bottom of the page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Move the textbox to this location.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Next, rotate the textbox 90 degrees to the left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Insert and rotate clipart 90 degrees to the left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ight Arrow Callout 13"/>
          <p:cNvGrpSpPr/>
          <p:nvPr/>
        </p:nvGrpSpPr>
        <p:grpSpPr>
          <a:xfrm>
            <a:off x="298440" y="-3157560"/>
            <a:ext cx="7072200" cy="3230640"/>
            <a:chOff x="298440" y="-3157560"/>
            <a:chExt cx="7072200" cy="3230640"/>
          </a:xfrm>
        </p:grpSpPr>
        <p:pic>
          <p:nvPicPr>
            <p:cNvPr id="55" name="Right Arrow Callout 13" descr=""/>
            <p:cNvPicPr/>
            <p:nvPr/>
          </p:nvPicPr>
          <p:blipFill>
            <a:blip r:embed="rId4"/>
            <a:stretch/>
          </p:blipFill>
          <p:spPr>
            <a:xfrm>
              <a:off x="298440" y="-3157560"/>
              <a:ext cx="7072200" cy="323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16200000">
              <a:off x="2797200" y="-5463720"/>
              <a:ext cx="2178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b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Type your information in textbox #2 at the bottom of the page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Move the textbox to this location.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Next, rotate the textbox 180 degrees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Insert and rotate clipart 180 degrees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Right Arrow Callout 14"/>
          <p:cNvGrpSpPr/>
          <p:nvPr/>
        </p:nvGrpSpPr>
        <p:grpSpPr>
          <a:xfrm>
            <a:off x="-3365640" y="7254720"/>
            <a:ext cx="3389400" cy="3108600"/>
            <a:chOff x="-3365640" y="7254720"/>
            <a:chExt cx="3389400" cy="3108600"/>
          </a:xfrm>
        </p:grpSpPr>
        <p:pic>
          <p:nvPicPr>
            <p:cNvPr id="58" name="Right Arrow Callout 14" descr=""/>
            <p:cNvPicPr/>
            <p:nvPr/>
          </p:nvPicPr>
          <p:blipFill>
            <a:blip r:embed="rId5"/>
            <a:stretch/>
          </p:blipFill>
          <p:spPr>
            <a:xfrm>
              <a:off x="-3365640" y="7254720"/>
              <a:ext cx="3389400" cy="310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 rot="19891800">
              <a:off x="-2758680" y="7606800"/>
              <a:ext cx="193212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Fold the paper along the diagonal lines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Cut from the lower left corner to the center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Right Arrow Callout 15"/>
          <p:cNvGrpSpPr/>
          <p:nvPr/>
        </p:nvGrpSpPr>
        <p:grpSpPr>
          <a:xfrm>
            <a:off x="7791480" y="6797520"/>
            <a:ext cx="3998880" cy="2041560"/>
            <a:chOff x="7791480" y="6797520"/>
            <a:chExt cx="3998880" cy="2041560"/>
          </a:xfrm>
        </p:grpSpPr>
        <p:pic>
          <p:nvPicPr>
            <p:cNvPr id="61" name="Right Arrow Callout 15" descr=""/>
            <p:cNvPicPr/>
            <p:nvPr/>
          </p:nvPicPr>
          <p:blipFill>
            <a:blip r:embed="rId6"/>
            <a:stretch/>
          </p:blipFill>
          <p:spPr>
            <a:xfrm>
              <a:off x="7791480" y="6797520"/>
              <a:ext cx="399888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9209160" y="6858000"/>
              <a:ext cx="252576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Print your project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Cut all the way across this line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Box 16"/>
          <p:cNvSpPr/>
          <p:nvPr/>
        </p:nvSpPr>
        <p:spPr>
          <a:xfrm>
            <a:off x="-1143000" y="3865680"/>
            <a:ext cx="6094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6600" spc="-1" strike="noStrike">
                <a:solidFill>
                  <a:srgbClr val="4f6228"/>
                </a:solidFill>
                <a:latin typeface="Calibri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7"/>
          <p:cNvSpPr/>
          <p:nvPr/>
        </p:nvSpPr>
        <p:spPr>
          <a:xfrm>
            <a:off x="8305920" y="3865680"/>
            <a:ext cx="6094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6600" spc="-1" strike="noStrike">
                <a:solidFill>
                  <a:srgbClr val="4f6228"/>
                </a:solidFill>
                <a:latin typeface="Calibri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8"/>
          <p:cNvSpPr/>
          <p:nvPr/>
        </p:nvSpPr>
        <p:spPr>
          <a:xfrm>
            <a:off x="3581280" y="-1066680"/>
            <a:ext cx="60984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6600" spc="-1" strike="noStrike">
                <a:solidFill>
                  <a:srgbClr val="4f6228"/>
                </a:solidFill>
                <a:latin typeface="Calibri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9"/>
          <p:cNvSpPr/>
          <p:nvPr/>
        </p:nvSpPr>
        <p:spPr>
          <a:xfrm>
            <a:off x="8458200" y="7197840"/>
            <a:ext cx="6094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6600" spc="-1" strike="noStrike">
                <a:solidFill>
                  <a:srgbClr val="4f6228"/>
                </a:solidFill>
                <a:latin typeface="Calibri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0"/>
          <p:cNvSpPr/>
          <p:nvPr/>
        </p:nvSpPr>
        <p:spPr>
          <a:xfrm>
            <a:off x="-990720" y="7543800"/>
            <a:ext cx="60984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6600" spc="-1" strike="noStrike">
                <a:solidFill>
                  <a:srgbClr val="4f6228"/>
                </a:solidFill>
                <a:latin typeface="Calibri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1"/>
          <p:cNvSpPr/>
          <p:nvPr/>
        </p:nvSpPr>
        <p:spPr>
          <a:xfrm>
            <a:off x="2819520" y="5029200"/>
            <a:ext cx="2417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ut from the lower lef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rner to the center. Stop at the stop sig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ld this section behind section #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ape  or glue along se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2"/>
          <p:cNvSpPr/>
          <p:nvPr/>
        </p:nvSpPr>
        <p:spPr>
          <a:xfrm rot="18730200">
            <a:off x="330480" y="6993360"/>
            <a:ext cx="8632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Wingdings 2"/>
                <a:ea typeface="Wingdings 2"/>
              </a:rPr>
              <a:t>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1" descr="2112464.jpg"/>
          <p:cNvPicPr/>
          <p:nvPr/>
        </p:nvPicPr>
        <p:blipFill>
          <a:blip r:embed="rId7"/>
          <a:stretch/>
        </p:blipFill>
        <p:spPr>
          <a:xfrm rot="2610600">
            <a:off x="3730680" y="4041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71" name="TextBox 24"/>
          <p:cNvSpPr/>
          <p:nvPr/>
        </p:nvSpPr>
        <p:spPr>
          <a:xfrm>
            <a:off x="-76320" y="7620120"/>
            <a:ext cx="8636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Wingdings 2"/>
                <a:ea typeface="Wingdings 2"/>
              </a:rPr>
              <a:t>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5"/>
          <p:cNvSpPr/>
          <p:nvPr/>
        </p:nvSpPr>
        <p:spPr>
          <a:xfrm>
            <a:off x="380880" y="7769160"/>
            <a:ext cx="3657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ut all the way across this lin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26"/>
          <p:cNvSpPr/>
          <p:nvPr/>
        </p:nvSpPr>
        <p:spPr>
          <a:xfrm flipV="1">
            <a:off x="-720" y="3885840"/>
            <a:ext cx="3886200" cy="3886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27"/>
          <p:cNvSpPr/>
          <p:nvPr/>
        </p:nvSpPr>
        <p:spPr>
          <a:xfrm>
            <a:off x="0" y="7772400"/>
            <a:ext cx="77724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781280" indent="-254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290680" indent="-2538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290680" indent="-2538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290680" indent="-2538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388800" y="9323280"/>
            <a:ext cx="1812960" cy="534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655720" y="9323280"/>
            <a:ext cx="2460960" cy="534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5570640" y="9323280"/>
            <a:ext cx="1812960" cy="534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fld id="{73C172A5-D268-41B6-B056-2F7564B4EDE7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3"/>
          <p:cNvSpPr/>
          <p:nvPr/>
        </p:nvSpPr>
        <p:spPr>
          <a:xfrm>
            <a:off x="533520" y="8229600"/>
            <a:ext cx="6324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box #1-Triple click on this text and type your informa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533520" y="8805960"/>
            <a:ext cx="6324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box #2-Triple click on this text and type your inform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533520" y="9377280"/>
            <a:ext cx="6324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box #3-Triple click on this text and type your inform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1676520" y="7238880"/>
            <a:ext cx="4572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riple click and type your first and last n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03:16:42Z</dcterms:created>
  <dc:creator>Copyright 2008: Jim Holland &amp; Gaby Krumm</dc:creator>
  <dc:description/>
  <dc:language>en-US</dc:language>
  <cp:lastModifiedBy>mwilliams</cp:lastModifiedBy>
  <dcterms:modified xsi:type="dcterms:W3CDTF">2008-09-17T20:25:28Z</dcterms:modified>
  <cp:revision>4</cp:revision>
  <dc:subject/>
  <dc:title>Slide 1</dc:title>
</cp:coreProperties>
</file>